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8391-E352-453C-97A9-C0044606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EFA-F8CA-4333-A80A-A33C9ED72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8DF-ABB2-4979-8422-0F87C045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4DC-432C-4FBA-A459-7E056469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5C5-71B2-4205-8202-0B3F9599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9D8-D539-4D8C-BD1A-085A5302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DB6-7C9D-47A6-B97F-1C86A260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E67-7323-41F8-9A25-E97FE083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9EC-9198-45B9-ABB8-8284C3A9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78B-852F-421C-8882-119A253B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B47-D8FF-4B77-B479-A90B6D7F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ABB-85AB-49B4-BD85-A885CFC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6D5-1E91-4869-9C3B-87379D71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F1F-4FFC-45EB-B220-2B28D86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7E7D-435F-4E35-A3B4-153CF3F2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Yo amo One Direction, Ed Sheeran, Little Mix, and Taylor Swift.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Yo soy extrovertida y graciosa. Yo soy inteligente y joven.Yo no muerden, add me!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715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7339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. :D Tú eres linda, Noureen!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enas tardes, Noureen!¿Quieres ir de compras en 1D Worl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dia Uddi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 puedo esperar para mi cumpleaños!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 de 2012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ureen 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2"/>
          <p:cNvSpPr/>
          <p:nvPr/>
        </p:nvSpPr>
        <p:spPr>
          <a:xfrm>
            <a:off x="685800" y="6400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7"/>
          <a:stretch/>
        </p:blipFill>
        <p:spPr>
          <a:xfrm>
            <a:off x="76320" y="594360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8"/>
          <a:stretch/>
        </p:blipFill>
        <p:spPr>
          <a:xfrm>
            <a:off x="609480" y="53341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685800" y="59436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1219320" y="52578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11"/>
          <a:stretch/>
        </p:blipFill>
        <p:spPr>
          <a:xfrm>
            <a:off x="76320" y="990720"/>
            <a:ext cx="1823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02Z</dcterms:created>
  <dc:creator>FriscoISD</dc:creator>
  <dc:description/>
  <dc:language>en-US</dc:language>
  <cp:lastModifiedBy>User</cp:lastModifiedBy>
  <dcterms:modified xsi:type="dcterms:W3CDTF">2012-12-06T14:02:15Z</dcterms:modified>
  <cp:revision>104</cp:revision>
  <dc:subject/>
  <dc:title>Profile</dc:title>
</cp:coreProperties>
</file>